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021C7-68C1-4B7A-80FE-D1CCCB077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CD211-FDDD-45B2-920E-0DF842F82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7AF05-75AE-4C6E-92D3-40B01D7CC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8D00B-18DE-423D-848C-52B257510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15A90-A9AC-4BAB-95B9-B639BDA6C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2BDF6-A793-4501-98DE-8CA1F1263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3D9DD-5D3D-4565-9A71-430AED63C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F9245-1A14-4312-9663-4E4E8748F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1495B-5E0C-4A55-8427-8FE215A98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98CCE-01D0-4F3A-8050-EC07DC93D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87B05-E0F2-4490-BCB3-CFE76E497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3BDD5-D356-4248-9A0A-702B32938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28946-3E88-40D4-A008-A4A2E3D64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A84BE-0D03-4211-AA64-59A711B86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8912D-921E-41C2-A66B-362D3609E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CB62C-24AE-4483-A4C7-09099A8F8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E951F-ED90-4D01-9AA3-5EB30E93D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EE92B-51A8-4247-80E6-16295DFDA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AFC04-2CDF-4731-A74E-7DF76D64D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A6BFF-A178-464B-B737-95048FE94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1E437-42BD-4D09-9B4C-671BF4FCD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38A34-A8A0-42EB-A0DB-54315541B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6A396-2660-4E13-96C7-9414E4468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B96FA-059C-4B69-9EB1-6746494D8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9CAB-5CB5-42BE-A015-4CB70917FB9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A27B-5E43-4899-96BB-405DA38A310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mc.maricopa.edu/faculty/farabee/BIOBK/BioBookglossL.html#leaves"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L.html#light reactions"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Photosynthesis</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s the process by which plants, some bacteria, and some protistans use the</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ergy from sunlight to produce sugar.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verview of Photosynthesis</a:t>
            </a:r>
            <a:endParaRPr b="0" lang="en-US" sz="3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12" name="" descr=""/>
          <p:cNvPicPr/>
          <p:nvPr/>
        </p:nvPicPr>
        <p:blipFill>
          <a:blip r:embed="rId1"/>
          <a:stretch/>
        </p:blipFill>
        <p:spPr>
          <a:xfrm>
            <a:off x="1447920" y="1371600"/>
            <a:ext cx="7162560" cy="510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ight Reaction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 the Light Dependent Processes (Light Reactions) light strikes chlorophyll a in such a way as to excite electrons to a higher energy state. In a series of reactions the energy is converted (along an electron transport process) into ATP and NADPH. Water is split in the process, releasing oxygen as a by-product of the reaction. The ATP and NADPH are used to make C-C bonds in the Light Independent Process (Dark Reaction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hotosynthesis</a:t>
            </a:r>
            <a:endParaRPr b="0" lang="en-US" sz="3600" spc="-1" strike="noStrike">
              <a:solidFill>
                <a:srgbClr val="006666"/>
              </a:solidFill>
              <a:latin typeface="Arial"/>
            </a:endParaRPr>
          </a:p>
        </p:txBody>
      </p:sp>
      <p:sp>
        <p:nvSpPr>
          <p:cNvPr id="116" name="PlaceHolder 2"/>
          <p:cNvSpPr>
            <a:spLocks noGrp="1"/>
          </p:cNvSpPr>
          <p:nvPr>
            <p:ph/>
          </p:nvPr>
        </p:nvSpPr>
        <p:spPr>
          <a:xfrm>
            <a:off x="685440" y="1827360"/>
            <a:ext cx="8458200" cy="464976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 the Light Independent Process, carbon dioxide from the atmosphere (or water for aquatic/marine organisms) is captured and modified by the addition of Hydrogen to form carbohydrates (general formula of carbohydrates is [CH2O]n). The incorporation of carbon dioxide into organic compounds is known as carbon fixation. The energy for this comes from the first phase of the photosynthetic process. Living systems cannot directly utilize light energy, but can, through a complicated series of reactions, convert it into C-C bond energy that can be released by glycolysis and other metabolic processes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Balanced chemical equation for photosynthesis</a:t>
            </a: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6H2O + 6CO2 ----------&gt; C6H12O6+ 6O2</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ves and Leaf Structure </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lants are the only photosynthetic organisms to have </a:t>
            </a:r>
            <a:r>
              <a:rPr b="0" lang="en-US" sz="2500" spc="-1" strike="noStrike" u="sng">
                <a:solidFill>
                  <a:srgbClr val="006666"/>
                </a:solidFill>
                <a:uFillTx/>
                <a:latin typeface="Verdana"/>
                <a:hlinkClick r:id="rId1"/>
              </a:rPr>
              <a:t>leaves</a:t>
            </a:r>
            <a:r>
              <a:rPr b="0" lang="en-US" sz="2500" spc="-1" strike="noStrike" u="sng">
                <a:solidFill>
                  <a:srgbClr val="000000"/>
                </a:solidFill>
                <a:uFillTx/>
                <a:latin typeface="Verdana"/>
              </a:rPr>
              <a:t> (and not all plants have leaves). A leaf may be viewed as a solar collector crammed full of photosynthetic cell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raw materials of photosynthesis, water and carbon dioxide, enter the cells of the leaf, and the products of photosynthesis, sugar and oxygen, leave the leaf.</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oss section of a leaf</a:t>
            </a:r>
            <a:endParaRPr b="0" lang="en-US" sz="3600" spc="-1" strike="noStrike">
              <a:solidFill>
                <a:srgbClr val="006666"/>
              </a:solidFill>
              <a:latin typeface="Arial"/>
            </a:endParaRPr>
          </a:p>
        </p:txBody>
      </p:sp>
      <p:sp>
        <p:nvSpPr>
          <p:cNvPr id="97" name="PlaceHolder 2"/>
          <p:cNvSpPr>
            <a:spLocks noGrp="1"/>
          </p:cNvSpPr>
          <p:nvPr>
            <p:ph/>
          </p:nvPr>
        </p:nvSpPr>
        <p:spPr>
          <a:xfrm>
            <a:off x="533520" y="1523520"/>
            <a:ext cx="7999200" cy="53341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eaf Anatomy</a:t>
            </a:r>
            <a:endParaRPr b="0" lang="en-US" sz="2900" spc="-1" strike="noStrike">
              <a:solidFill>
                <a:srgbClr val="000000"/>
              </a:solidFill>
              <a:latin typeface="Verdana"/>
            </a:endParaRPr>
          </a:p>
        </p:txBody>
      </p:sp>
      <p:pic>
        <p:nvPicPr>
          <p:cNvPr id="98" name="" descr=""/>
          <p:cNvPicPr/>
          <p:nvPr/>
        </p:nvPicPr>
        <p:blipFill>
          <a:blip r:embed="rId1"/>
          <a:stretch/>
        </p:blipFill>
        <p:spPr>
          <a:xfrm>
            <a:off x="609480" y="1981080"/>
            <a:ext cx="800100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s Exchange</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nd plants must guard against drying out (desiccation) and so have evolved specialized structures known as stomata to allow gas to enter and leave the leaf. Carbon dioxide cannot pass through the protective waxy layer covering the leaf (cuticle), but it can enter the leaf through an opening (the stoma; plural = stomata; Greek for hole) flanked by two guard cells.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d</a:t>
            </a: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kewise, oxygen produced during photosynthesis can only pass out of the leaf through the opened stomata. Unfortunately for the plant, while these gases are moving between the inside and outside of the leaf, a great deal of water is also los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omata in Plant Leaf</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05" name="" descr=""/>
          <p:cNvPicPr/>
          <p:nvPr/>
        </p:nvPicPr>
        <p:blipFill>
          <a:blip r:embed="rId1"/>
          <a:stretch/>
        </p:blipFill>
        <p:spPr>
          <a:xfrm>
            <a:off x="1371600" y="1523880"/>
            <a:ext cx="739152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ges of Photosynthesis</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hotosynthesis is a two stage process. The first process is the Light Dependent Process (</a:t>
            </a:r>
            <a:r>
              <a:rPr b="0" lang="en-US" sz="2900" spc="-1" strike="noStrike" u="sng">
                <a:solidFill>
                  <a:srgbClr val="006666"/>
                </a:solidFill>
                <a:uFillTx/>
                <a:latin typeface="Verdana"/>
                <a:hlinkClick r:id="rId1"/>
              </a:rPr>
              <a:t>Light Reactions</a:t>
            </a:r>
            <a:r>
              <a:rPr b="0" lang="en-US" sz="2900" spc="-1" strike="noStrike" u="sng">
                <a:solidFill>
                  <a:srgbClr val="000000"/>
                </a:solidFill>
                <a:uFillTx/>
                <a:latin typeface="Verdana"/>
              </a:rPr>
              <a:t>), requires the direct energy of light to make energy carrier molecules that are used in the second process.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ages of Photosynthesis</a:t>
            </a: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Light Independent Process (or Dark Reactions) occurs when the products of the Light Reaction are used to form C-C covalent bonds of carbohydrates. The Dark Reactions can usually occur in the dark, if the energy carriers from the light process are presen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13:14:46Z</dcterms:created>
  <dc:creator>user</dc:creator>
  <dc:description/>
  <dc:language>en-US</dc:language>
  <cp:lastModifiedBy>user</cp:lastModifiedBy>
  <dcterms:modified xsi:type="dcterms:W3CDTF">2007-04-11T13:43:22Z</dcterms:modified>
  <cp:revision>2</cp:revision>
  <dc:subject/>
  <dc:title>Photosynthe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